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eiti SC Light"/>
              </a:rPr>
              <a:t>标准允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eiti SC Light"/>
              </a:rPr>
              <a:t>swi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eiti SC Light"/>
              </a:rPr>
              <a:t>后面的表达式为任何类型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1)a==b&gt;=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2)a&gt;b+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3)a=2&gt;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a&amp;&amp;!b||c&amp;&amp;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amp;&amp;b||c&gt;d&amp;&amp;!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是所有的逻辑运算符都被执行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五章：选择结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0" name=""/>
          <p:cNvSpPr/>
          <p:nvPr/>
        </p:nvSpPr>
        <p:spPr>
          <a:xfrm>
            <a:off x="1270080" y="2813040"/>
            <a:ext cx="10464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是用来判定所给定的条件是否满足，根据判定的结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真或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决定执行给出的两种操作之一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的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3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种形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4788000" y="406404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652480" y="2962800"/>
            <a:ext cx="3505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450880" y="2823120"/>
            <a:ext cx="5531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else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4292640" y="40640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给定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2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个数，求出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2</a:t>
            </a: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个数中的最大数</a:t>
            </a:r>
            <a:endParaRPr b="0" lang="en-US" sz="40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47" name=""/>
          <p:cNvSpPr/>
          <p:nvPr/>
        </p:nvSpPr>
        <p:spPr>
          <a:xfrm>
            <a:off x="1308240" y="2305080"/>
            <a:ext cx="103885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,j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 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i,&amp;j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x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i&gt;j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max = 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max = j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max is %i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max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6134040" y="2540160"/>
            <a:ext cx="6278760" cy="435600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1268640" y="3170520"/>
            <a:ext cx="438912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)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入一个分数判断其等级</a:t>
            </a:r>
            <a:endParaRPr b="0" lang="en-US" sz="40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974960"/>
            <a:ext cx="10388520" cy="68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core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score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score&gt;=90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优秀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score&gt;=80)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良好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score&gt;=60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及格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不及格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2870280"/>
            <a:ext cx="100839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三种形式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中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后面都有“表达式”，一般为逻辑表达式或关系表达式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第二、第三种形式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中，整个语句结束处有一个分号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后面可以只含一个内嵌的操作语句，也可以有多个操作语句，此时用花括号将几个语句括起来成为一个复合语句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的嵌套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5" name=""/>
          <p:cNvSpPr/>
          <p:nvPr/>
        </p:nvSpPr>
        <p:spPr>
          <a:xfrm>
            <a:off x="1841400" y="1981080"/>
            <a:ext cx="930924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中又包含一个或多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称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语句的嵌套。一般形式如下：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(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()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()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语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条件运算符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98040" y="2082600"/>
            <a:ext cx="1181124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条件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(?:)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可以实现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if els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功能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般格式：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？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（三元运算符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原理：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当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1”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为真，则运算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2”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整个条件表达式的值为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2”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值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当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1”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为假，则运算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3” 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整个条件表达式的值为“表达式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3”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值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条件运算符优先与赋值运算符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一个字母，判断它是否是大写字母，如果是，将它转换为小写字母，如果不是，不转换，然后输出最后得到的字符</a:t>
            </a:r>
            <a:endParaRPr b="0" lang="en-US" sz="36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59" name=""/>
          <p:cNvSpPr/>
          <p:nvPr/>
        </p:nvSpPr>
        <p:spPr>
          <a:xfrm>
            <a:off x="1219320" y="2286000"/>
            <a:ext cx="105537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c 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c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c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(c&gt;='A'&amp;&amp;c&lt;='Z') || (c&gt;='a'&amp;&amp; c&lt;='z')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c&gt;='A'&amp;&amp;c&lt;='Z'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c+=32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c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c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你输入有错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概述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69720" y="2413080"/>
            <a:ext cx="1046484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选择结构是三种基本结构之一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作用：根据所指定的条件是否满足，决定从给定的两组操作选择其一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“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f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”和“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witch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witch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1" name=""/>
          <p:cNvSpPr/>
          <p:nvPr/>
        </p:nvSpPr>
        <p:spPr>
          <a:xfrm>
            <a:off x="3137040" y="2762280"/>
            <a:ext cx="85849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是多分支选择语句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一般形式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常量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常量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…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常量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: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: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+1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69720" y="2273400"/>
            <a:ext cx="1046484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后面括号内的表达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当表达式的值与某一个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后面的常量表达式的值相等时，就执行此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后面的语句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default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就是如果没有符合的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case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就执行它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,default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并不是必须的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每一个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的常量表达式的值必须互不相同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多个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共用一组执行语句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输出结果是什么？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5" name=""/>
          <p:cNvSpPr/>
          <p:nvPr/>
        </p:nvSpPr>
        <p:spPr>
          <a:xfrm>
            <a:off x="4240800" y="3107520"/>
            <a:ext cx="37501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witch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(2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1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1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2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2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3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3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4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4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5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5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defaul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defult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87320" y="558360"/>
            <a:ext cx="1143000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</a:t>
            </a:r>
            <a:r>
              <a:rPr b="0" lang="en-US" sz="4000" spc="-1" strike="noStrike">
                <a:solidFill>
                  <a:srgbClr val="626053"/>
                </a:solidFill>
                <a:latin typeface="Baskerville"/>
                <a:ea typeface="华文宋体"/>
              </a:rPr>
              <a:t> 输入一个分数判断其等级</a:t>
            </a:r>
            <a:endParaRPr b="0" lang="en-US" sz="40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7" name=""/>
          <p:cNvSpPr/>
          <p:nvPr/>
        </p:nvSpPr>
        <p:spPr>
          <a:xfrm>
            <a:off x="1219320" y="2247840"/>
            <a:ext cx="10553760" cy="73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orce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sorce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witch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(sorce/10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10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9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优秀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8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7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6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及格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defaul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</a:t>
            </a:r>
            <a:r>
              <a:rPr b="0" lang="zh-CN" sz="1800" spc="-1" strike="noStrike">
                <a:solidFill>
                  <a:srgbClr val="666666"/>
                </a:solidFill>
                <a:latin typeface="Heiti SC Light"/>
                <a:ea typeface="Heiti SC Light"/>
              </a:rPr>
              <a:t>不及格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break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习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9" name=""/>
          <p:cNvSpPr/>
          <p:nvPr/>
        </p:nvSpPr>
        <p:spPr>
          <a:xfrm>
            <a:off x="1193760" y="2349360"/>
            <a:ext cx="1060452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个整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输出其中最大的数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给出一百分制成绩，要求输出成绩等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以上为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～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为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～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为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～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为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以下为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输入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个整数，要求按由小到大的顺序输出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can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函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269720" y="2082960"/>
            <a:ext cx="10464840" cy="372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canf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的一个函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作用：从控制台向程序变量中输入数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t a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；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canf(“%d”,&amp;a)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布尔类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2057400" y="3301920"/>
          <a:ext cx="9080640" cy="3149280"/>
        </p:xfrm>
        <a:graphic>
          <a:graphicData uri="http://schemas.openxmlformats.org/drawingml/2006/table">
            <a:tbl>
              <a:tblPr/>
              <a:tblGrid>
                <a:gridCol w="3026520"/>
                <a:gridCol w="3027240"/>
                <a:gridCol w="3026880"/>
              </a:tblGrid>
              <a:tr h="1049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语言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数据类型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取值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C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_Bool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true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条件成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false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条件不成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Objective-C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BOOL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YES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条件成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O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条件不成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6" name=""/>
          <p:cNvSpPr/>
          <p:nvPr/>
        </p:nvSpPr>
        <p:spPr>
          <a:xfrm>
            <a:off x="2209680" y="7112160"/>
            <a:ext cx="8979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注：“关系表达式”和“逻辑表达式”返回的结果都是布尔类型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关系运算符及优先次序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8" name=""/>
          <p:cNvSpPr/>
          <p:nvPr/>
        </p:nvSpPr>
        <p:spPr>
          <a:xfrm>
            <a:off x="1828800" y="3086280"/>
            <a:ext cx="8547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Objective-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提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关系运算符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    &lt;=    &gt;    &gt;=    ==    !=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关于优先次序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关系运算符的优先级别相同，后两种也相同。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高于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关系运算符的优先级低于算术运算符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关系运算符的优先级高于赋值运算符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关系表达式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0" name=""/>
          <p:cNvSpPr/>
          <p:nvPr/>
        </p:nvSpPr>
        <p:spPr>
          <a:xfrm>
            <a:off x="1739880" y="2832120"/>
            <a:ext cx="95122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用关系运算符将两个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可以是算术表达式或关系表达式、逻辑表达式、赋值表达式、字符表达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连接起来的式子，称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关系表达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运算符及其优先次序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2" name=""/>
          <p:cNvSpPr/>
          <p:nvPr/>
        </p:nvSpPr>
        <p:spPr>
          <a:xfrm>
            <a:off x="533520" y="3181320"/>
            <a:ext cx="11937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提供了三种逻辑运算符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 &amp;&amp; : </a:t>
            </a:r>
            <a:r>
              <a:rPr b="0" lang="zh-CN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与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Courier New"/>
                <a:ea typeface="Heiti SC Light"/>
              </a:rPr>
              <a:t>相当于生活中说的“并且”，就是两个条件都同时成立的情况下，结果才为“真”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 || : </a:t>
            </a:r>
            <a:r>
              <a:rPr b="0" lang="zh-CN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或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Courier New"/>
                <a:ea typeface="Heiti SC Light"/>
              </a:rPr>
              <a:t>相当于生活中的“或者”，当两个条件中有任一个条件满足，结果就为“真”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 ! : </a:t>
            </a:r>
            <a:r>
              <a:rPr b="0" lang="zh-CN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就是指本来值的取反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关于优先次序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!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&gt;&amp;&amp;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&gt;||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或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即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!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为三者中最高的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逻辑运算符中的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&amp;&amp;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和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||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低于关系运算符，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!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高于算术运算符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运算的“真值表”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1955880" y="2730600"/>
          <a:ext cx="9080280" cy="5701680"/>
        </p:xfrm>
        <a:graphic>
          <a:graphicData uri="http://schemas.openxmlformats.org/drawingml/2006/table">
            <a:tbl>
              <a:tblPr/>
              <a:tblGrid>
                <a:gridCol w="1815840"/>
                <a:gridCol w="1815840"/>
                <a:gridCol w="1816200"/>
                <a:gridCol w="1816200"/>
                <a:gridCol w="1816200"/>
              </a:tblGrid>
              <a:tr h="114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a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真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真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假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假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b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真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假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真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假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a&amp;&amp;b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4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a||b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5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!a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6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4519440" y="526140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6" name=""/>
          <p:cNvSpPr/>
          <p:nvPr/>
        </p:nvSpPr>
        <p:spPr>
          <a:xfrm>
            <a:off x="4519440" y="6391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7" name=""/>
          <p:cNvSpPr/>
          <p:nvPr/>
        </p:nvSpPr>
        <p:spPr>
          <a:xfrm>
            <a:off x="6335640" y="6391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8" name=""/>
          <p:cNvSpPr/>
          <p:nvPr/>
        </p:nvSpPr>
        <p:spPr>
          <a:xfrm>
            <a:off x="8151840" y="6391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9" name=""/>
          <p:cNvSpPr/>
          <p:nvPr/>
        </p:nvSpPr>
        <p:spPr>
          <a:xfrm>
            <a:off x="8151840" y="75218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0" name=""/>
          <p:cNvSpPr/>
          <p:nvPr/>
        </p:nvSpPr>
        <p:spPr>
          <a:xfrm>
            <a:off x="9967680" y="7534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真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1" name=""/>
          <p:cNvSpPr/>
          <p:nvPr/>
        </p:nvSpPr>
        <p:spPr>
          <a:xfrm>
            <a:off x="6335640" y="526140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2" name=""/>
          <p:cNvSpPr/>
          <p:nvPr/>
        </p:nvSpPr>
        <p:spPr>
          <a:xfrm>
            <a:off x="8151840" y="526140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3" name=""/>
          <p:cNvSpPr/>
          <p:nvPr/>
        </p:nvSpPr>
        <p:spPr>
          <a:xfrm>
            <a:off x="9967680" y="526140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4" name=""/>
          <p:cNvSpPr/>
          <p:nvPr/>
        </p:nvSpPr>
        <p:spPr>
          <a:xfrm>
            <a:off x="9967680" y="6391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5" name=""/>
          <p:cNvSpPr/>
          <p:nvPr/>
        </p:nvSpPr>
        <p:spPr>
          <a:xfrm>
            <a:off x="4519440" y="7534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6" name=""/>
          <p:cNvSpPr/>
          <p:nvPr/>
        </p:nvSpPr>
        <p:spPr>
          <a:xfrm>
            <a:off x="6335640" y="7534440"/>
            <a:ext cx="3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假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逻辑表达式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8" name=""/>
          <p:cNvSpPr/>
          <p:nvPr/>
        </p:nvSpPr>
        <p:spPr>
          <a:xfrm>
            <a:off x="1270080" y="2489040"/>
            <a:ext cx="1046484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用逻辑运算符将关系表达式或逻辑量连接起来的式子就是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eiti SC Light"/>
              </a:rPr>
              <a:t>逻辑表达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a&amp;&amp;b&amp;&amp;c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a||b||c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